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A68-6B2F-4DB1-AD2E-E91B886B9B9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721-EB92-4DD5-AC13-C9312BE8FE9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434B-A174-49EE-9AE7-474205372749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85F-D415-4732-8CD7-0FB43A96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4B6-2625-4745-8076-F95E7E86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B7A-AC54-4F51-9F0D-B73AB9E5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920-4C30-43A5-BAAD-AC12CFAF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AD55-D453-4608-A59B-BA8AB7B3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A0FA-1E83-4466-AD27-048425E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9129-7353-46D1-BE6F-73743469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B98C-1E4F-4950-8529-4D1C14D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F7A2-B7FD-4947-ADA1-5087FE28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5073-07AB-448E-A957-11CB072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36EC-41D7-4796-9338-B50C23B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EEA-E1D5-4C55-BE14-83A5CBD0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0041-6DE1-4376-8262-C69D0FCD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5C5-3E78-41A3-8DC1-5A7AC44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30C-6923-42FC-9F3E-AA0589E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DC43-3E8F-489D-95BA-3ECEABAA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EF54-9855-4DC9-94BE-CA5B9335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E38D-3444-4CF2-B24F-A458BA0C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B8EB-200B-46B8-8CBA-B9FEA31F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DD65-CFE9-42FC-B510-C23B4706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7BE5-7F5B-484A-9FA7-D92C696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99AD-9469-4187-BB5B-9EDC67B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4B6-1CE0-46B3-AAC1-EAACBB4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98E4-6D6B-418C-A981-D527E128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6075-FF4A-4456-A292-7FE7D50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60CE-9F2C-49AF-BD4E-3EEE9B08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5FC1-AF65-4238-83CB-AADAD5D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D861-1867-434F-8A3D-7B63BE8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CEE4-4E4A-4126-A780-D2E64A89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E263-CE5C-4E9B-9A2D-1E568BF1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6B8-DFD9-4FBA-A705-CCFF6EEF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4E8-D8D4-4BBF-9334-BE8974AA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266-5CCB-4298-A6F1-84BED4C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772-0235-4AB1-9E1E-C7AD3F2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3D7-8E22-4737-87B0-C0779434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DEF-8D05-4C81-BA8F-0A6ABE81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DCFF-82FD-4896-9E2A-8F89610A08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b2b2b2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www.quaraargentina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3FE-B856-4D1E-A43A-5A75F6468DF3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rcRect l="35836" t="27347" r="54728" b="57878"/>
          <a:stretch/>
        </p:blipFill>
        <p:spPr>
          <a:xfrm>
            <a:off x="468360" y="260280"/>
            <a:ext cx="574560" cy="5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Logo Quara"/>
          <p:cNvPicPr/>
          <p:nvPr/>
        </p:nvPicPr>
        <p:blipFill>
          <a:blip r:embed="rId3"/>
          <a:stretch/>
        </p:blipFill>
        <p:spPr>
          <a:xfrm>
            <a:off x="7596360" y="6308640"/>
            <a:ext cx="14047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AEB-DF52-42AB-A5EE-5C660CC14382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6"/>
          <p:cNvSpPr/>
          <p:nvPr/>
        </p:nvSpPr>
        <p:spPr>
          <a:xfrm>
            <a:off x="1116000" y="1700280"/>
            <a:ext cx="7201080" cy="2786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Organizaciones: Maltrato Laboral vs. Calidad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9280" y="6308640"/>
            <a:ext cx="60483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  <a:ea typeface="Verdana"/>
              </a:rPr>
              <a:t>Alejandra AULICINO (Lic. Administración)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  <a:ea typeface="Verdana"/>
              </a:rPr>
              <a:t>Jorge CAMPILONGO (Lic. Psicologí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116000" y="443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Foro Interdisciplinario de Investigación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Maltra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6515280" y="6237360"/>
            <a:ext cx="23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  <a:ea typeface="Verdana"/>
              </a:rPr>
              <a:t>24 de Agost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042920" y="333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Arial"/>
              </a:rPr>
              <a:t>Consejo Profesional de Ciencias Económicas C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1042920" y="2133720"/>
            <a:ext cx="7058160" cy="37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el latín Dignitas y a su vez de Dignus que en latín significaba mereced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lacionado con la raíz indoeuropea “dek_” que significa pensamiento o acep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lacionado con el concepto de val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ntes: http://etimologias.dechile.net , http://www.oei.es y diccionario de la RAE 22 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-38520" y="236520"/>
            <a:ext cx="92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FORO INTERDISCIPLINARIO DE INVESTIGACIÓN EN MALTRAT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556" name="Group 7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557" name="Group 8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558" name="Group 9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559" name="Group 10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560" name="Picture 11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61" name="Picture 12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62" name="Group 13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563" name="Picture 14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64" name="Picture 15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565" name="Group 16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566" name="Group 17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567" name="Picture 18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68" name="Picture 19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69" name="Group 20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570" name="Picture 21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1" name="Picture 22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572" name="Group 23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573" name="Group 24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574" name="Group 25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575" name="Picture 26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6" name="Picture 27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77" name="Group 28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578" name="Picture 29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9" name="Picture 30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580" name="Group 31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581" name="Group 32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582" name="Picture 33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3" name="Picture 34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84" name="Group 35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585" name="Picture 36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6" name="Picture 37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587" name="Group 38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588" name="Group 39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589" name="Picture 40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Picture 41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Group 42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592" name="Picture 43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44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94" name="Text Box 45"/>
          <p:cNvSpPr/>
          <p:nvPr/>
        </p:nvSpPr>
        <p:spPr>
          <a:xfrm>
            <a:off x="3640320" y="112536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IG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596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 flipV="1" rot="10800000">
            <a:off x="324000" y="56599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¡Muchas Graci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546200" y="2276640"/>
            <a:ext cx="6913440" cy="173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l amor, el trabajo y el conocimiento son las fuentes de nuestra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ambién deben conduci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Wilhelm 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6 CuadroTexto"/>
          <p:cNvSpPr/>
          <p:nvPr/>
        </p:nvSpPr>
        <p:spPr>
          <a:xfrm>
            <a:off x="1692360" y="44686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lejandraaulicino@yahoo.com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jorgecampilongo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1 Rectángulo"/>
          <p:cNvSpPr/>
          <p:nvPr/>
        </p:nvSpPr>
        <p:spPr>
          <a:xfrm>
            <a:off x="971640" y="549360"/>
            <a:ext cx="7056360" cy="1629000"/>
          </a:xfrm>
          <a:prstGeom prst="rect">
            <a:avLst/>
          </a:prstGeom>
          <a:solidFill>
            <a:srgbClr val="20d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No se consigue nunca lo posible si no se intenta lo imposible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y otra vez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ax 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116000" y="2133720"/>
            <a:ext cx="6913440" cy="3345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DEFIN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Maltrato, Violencia, Acoso moral o Psicológico, Mobbing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Acoso 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Tipos de Hostigamiento </a:t>
            </a:r>
            <a:br>
              <a:rPr sz="1800"/>
            </a:b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Nuevas alternativas para pensar el Acoso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Arial"/>
              </a:rPr>
              <a:t>Foro Interdisciplinario de Investigación en Maltra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148" name="Group 10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149" name="Group 11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150" name="Group 12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151" name="Group 13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152" name="Picture 14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3" name="Picture 15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54" name="Group 16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155" name="Picture 17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6" name="Picture 18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157" name="Group 19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158" name="Group 20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159" name="Picture 21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0" name="Picture 22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61" name="Group 23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162" name="Picture 24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3" name="Picture 25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164" name="Group 26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165" name="Group 27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166" name="Group 28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167" name="Picture 29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8" name="Picture 30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69" name="Group 31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170" name="Picture 32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1" name="Picture 33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172" name="Group 34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173" name="Group 35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174" name="Picture 36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5" name="Picture 37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76" name="Group 38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177" name="Picture 39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78" name="Picture 40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179" name="Group 41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180" name="Group 42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181" name="Picture 43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44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Group 45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184" name="Picture 46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7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86" name="Group 63"/>
          <p:cNvGrpSpPr/>
          <p:nvPr/>
        </p:nvGrpSpPr>
        <p:grpSpPr>
          <a:xfrm>
            <a:off x="179280" y="6308640"/>
            <a:ext cx="8785440" cy="360360"/>
            <a:chOff x="179280" y="6308640"/>
            <a:chExt cx="8785440" cy="360360"/>
          </a:xfrm>
        </p:grpSpPr>
        <p:sp>
          <p:nvSpPr>
            <p:cNvPr id="187" name="Rectangle 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24000" y="6388200"/>
              <a:ext cx="59036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0"/>
            <p:cNvSpPr/>
            <p:nvPr/>
          </p:nvSpPr>
          <p:spPr>
            <a:xfrm>
              <a:off x="6515280" y="6335640"/>
              <a:ext cx="237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182160" y="18900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LTRA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147400" y="105264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CLARANDO LAS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3"/>
          <p:cNvGrpSpPr/>
          <p:nvPr/>
        </p:nvGrpSpPr>
        <p:grpSpPr>
          <a:xfrm>
            <a:off x="179280" y="6308640"/>
            <a:ext cx="8785440" cy="360360"/>
            <a:chOff x="179280" y="6308640"/>
            <a:chExt cx="8785440" cy="360360"/>
          </a:xfrm>
        </p:grpSpPr>
        <p:sp>
          <p:nvSpPr>
            <p:cNvPr id="193" name="Rectangle 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324000" y="6388200"/>
              <a:ext cx="59036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6515280" y="6335640"/>
              <a:ext cx="237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11"/>
          <p:cNvSpPr/>
          <p:nvPr/>
        </p:nvSpPr>
        <p:spPr>
          <a:xfrm>
            <a:off x="541440" y="357336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Psicot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549080" y="28526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Acoso psic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757800" y="198900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Acos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4142520" y="227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Acoso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646520" y="37879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294880" y="45086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Bur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349440" y="4941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Di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7167600" y="234936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Mob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869440" y="30686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126880" y="414972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207" name="Group 23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208" name="Group 24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209" name="Group 25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210" name="Group 26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211" name="Picture 27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2" name="Picture 28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13" name="Group 29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214" name="Picture 30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5" name="Picture 31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16" name="Group 32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217" name="Group 33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218" name="Picture 34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9" name="Picture 35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0" name="Group 36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221" name="Picture 37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2" name="Picture 38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223" name="Group 39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224" name="Group 40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225" name="Group 41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226" name="Picture 42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Picture 43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8" name="Group 44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229" name="Picture 45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Picture 46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31" name="Group 47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232" name="Group 48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233" name="Picture 49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4" name="Picture 50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35" name="Group 51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236" name="Picture 52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7" name="Picture 53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238" name="Group 54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239" name="Group 55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240" name="Picture 56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57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2" name="Group 58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243" name="Picture 59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60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45" name="Text Box 61"/>
          <p:cNvSpPr/>
          <p:nvPr/>
        </p:nvSpPr>
        <p:spPr>
          <a:xfrm>
            <a:off x="5727240" y="537372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Violencia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469800" y="494172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cc"/>
                </a:solidFill>
                <a:latin typeface="Arial"/>
              </a:rPr>
              <a:t>Acoso 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7"/>
          <p:cNvSpPr/>
          <p:nvPr/>
        </p:nvSpPr>
        <p:spPr>
          <a:xfrm>
            <a:off x="182160" y="18900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LTRA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461400" y="10526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GLO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403280" y="2060640"/>
            <a:ext cx="5977080" cy="33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oso moral, psicológico o mob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imidar, matonear o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rés – Di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índrome de burnout o del que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oso sex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olenci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8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251" name="Group 19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252" name="Group 20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253" name="Group 21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254" name="Group 22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255" name="Picture 23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6" name="Picture 24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57" name="Group 25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258" name="Picture 26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Picture 27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60" name="Group 28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261" name="Group 29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262" name="Picture 30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Picture 31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64" name="Group 32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265" name="Picture 33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Picture 34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267" name="Group 35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268" name="Group 36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269" name="Group 37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270" name="Picture 38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71" name="Picture 39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72" name="Group 40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273" name="Picture 41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74" name="Picture 42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75" name="Group 43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276" name="Group 44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277" name="Picture 45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78" name="Picture 46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79" name="Group 47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280" name="Picture 48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81" name="Picture 49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282" name="Group 50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283" name="Group 51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284" name="Picture 52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53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6" name="Group 54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287" name="Picture 55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56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89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290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178560" y="18900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COSO MORAL o PSIC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383280" y="105264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403280" y="2276640"/>
            <a:ext cx="6985080" cy="3293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. Acción y efecto de acos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 Taurom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 Acosamiento a caballo, en campo abierto, de una res vacuna, generalmente como preliminar de un derribo y ti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~ moral,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 ~ psic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. Práctica ejercida en las relaciones personales, especialmente en el ámbito laboral, consistente en un trato vejatorio y descalificador hacia una persona, con el fin de desestabilizarla psíqu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179280" y="6308640"/>
            <a:ext cx="8785440" cy="360360"/>
            <a:chOff x="179280" y="6308640"/>
            <a:chExt cx="8785440" cy="360360"/>
          </a:xfrm>
        </p:grpSpPr>
        <p:sp>
          <p:nvSpPr>
            <p:cNvPr id="297" name="Rectangle 9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24000" y="6396120"/>
              <a:ext cx="43210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6515280" y="6308640"/>
              <a:ext cx="2377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2"/>
          <p:cNvSpPr/>
          <p:nvPr/>
        </p:nvSpPr>
        <p:spPr>
          <a:xfrm>
            <a:off x="4427640" y="1413000"/>
            <a:ext cx="451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99"/>
                </a:solidFill>
                <a:latin typeface="Arial"/>
              </a:rPr>
              <a:t>Avance de la 23va ed. del diccionario de la R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3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302" name="Group 14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303" name="Group 15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304" name="Group 16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305" name="Group 17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306" name="Picture 18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07" name="Picture 19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8" name="Group 20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309" name="Picture 21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10" name="Picture 22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11" name="Group 23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312" name="Group 24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313" name="Picture 25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14" name="Picture 26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15" name="Group 27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316" name="Picture 28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17" name="Picture 29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318" name="Group 30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319" name="Group 31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320" name="Group 32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321" name="Picture 33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2" name="Picture 34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23" name="Group 35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324" name="Picture 36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Picture 37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26" name="Group 38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327" name="Group 39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328" name="Picture 40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Picture 41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30" name="Group 42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331" name="Picture 43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Picture 44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333" name="Group 45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334" name="Group 46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335" name="Picture 47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48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7" name="Group 49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338" name="Picture 50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51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40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341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182160" y="18900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LTRA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404520" y="10526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332000" y="2349360"/>
            <a:ext cx="6985080" cy="1519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sación relacionada con el sufrimiento en el ámbito del trabajo atribuido a la interacción con una o vari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3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348" name="Group 14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349" name="Group 15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350" name="Group 16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351" name="Group 17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352" name="Picture 18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3" name="Picture 19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54" name="Group 20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355" name="Picture 21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6" name="Picture 22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57" name="Group 23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358" name="Group 24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359" name="Picture 25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Picture 26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61" name="Group 27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362" name="Picture 28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Picture 29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364" name="Group 30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365" name="Group 31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366" name="Group 32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367" name="Picture 33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8" name="Picture 34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69" name="Group 35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370" name="Picture 36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7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72" name="Group 38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373" name="Group 39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374" name="Picture 40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5" name="Picture 41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6" name="Group 42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377" name="Picture 43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8" name="Picture 44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379" name="Group 45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380" name="Group 46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381" name="Picture 47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48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3" name="Group 49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384" name="Picture 50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51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86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387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82160" y="18900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MALTRA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288240" y="1052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ONDE ES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4500720" y="1700280"/>
            <a:ext cx="3097080" cy="1800000"/>
            <a:chOff x="4500720" y="1700280"/>
            <a:chExt cx="3097080" cy="1800000"/>
          </a:xfrm>
        </p:grpSpPr>
        <p:sp>
          <p:nvSpPr>
            <p:cNvPr id="393" name="Oval 11"/>
            <p:cNvSpPr/>
            <p:nvPr/>
          </p:nvSpPr>
          <p:spPr>
            <a:xfrm>
              <a:off x="4500720" y="1700280"/>
              <a:ext cx="3097080" cy="1800000"/>
            </a:xfrm>
            <a:prstGeom prst="ellipse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5007960" y="26305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66"/>
                  </a:solidFill>
                  <a:latin typeface="Arial"/>
                </a:rPr>
                <a:t>Estr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4935240" y="203364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66"/>
                  </a:solidFill>
                  <a:latin typeface="Arial"/>
                </a:rPr>
                <a:t>Burn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4"/>
            <p:cNvSpPr/>
            <p:nvPr/>
          </p:nvSpPr>
          <p:spPr>
            <a:xfrm>
              <a:off x="6016320" y="248616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66"/>
                  </a:solidFill>
                  <a:latin typeface="Arial"/>
                </a:rPr>
                <a:t>Dist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1116000" y="2565360"/>
            <a:ext cx="4032360" cy="2735280"/>
            <a:chOff x="1116000" y="2565360"/>
            <a:chExt cx="4032360" cy="2735280"/>
          </a:xfrm>
        </p:grpSpPr>
        <p:sp>
          <p:nvSpPr>
            <p:cNvPr id="398" name="Oval 16"/>
            <p:cNvSpPr/>
            <p:nvPr/>
          </p:nvSpPr>
          <p:spPr>
            <a:xfrm>
              <a:off x="1116000" y="2565360"/>
              <a:ext cx="4032360" cy="2735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7"/>
            <p:cNvSpPr/>
            <p:nvPr/>
          </p:nvSpPr>
          <p:spPr>
            <a:xfrm>
              <a:off x="2456640" y="2925720"/>
              <a:ext cx="1284120" cy="368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99"/>
                  </a:solidFill>
                  <a:latin typeface="Arial"/>
                </a:rPr>
                <a:t>Psicot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8"/>
            <p:cNvSpPr/>
            <p:nvPr/>
          </p:nvSpPr>
          <p:spPr>
            <a:xfrm>
              <a:off x="1666440" y="3552840"/>
              <a:ext cx="2829600" cy="368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99"/>
                  </a:solidFill>
                  <a:latin typeface="Arial"/>
                </a:rPr>
                <a:t>Acoso moral o psic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2168640" y="4076640"/>
              <a:ext cx="1054080" cy="368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99"/>
                  </a:solidFill>
                  <a:latin typeface="Arial"/>
                </a:rPr>
                <a:t>Mo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3032280" y="4510080"/>
              <a:ext cx="977760" cy="368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99"/>
                  </a:solidFill>
                  <a:latin typeface="Arial"/>
                </a:rPr>
                <a:t>Bull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Oval 23"/>
          <p:cNvSpPr/>
          <p:nvPr/>
        </p:nvSpPr>
        <p:spPr>
          <a:xfrm>
            <a:off x="3924360" y="3429000"/>
            <a:ext cx="2879640" cy="1944720"/>
          </a:xfrm>
          <a:prstGeom prst="ellipse">
            <a:avLst/>
          </a:prstGeom>
          <a:solidFill>
            <a:srgbClr val="ff33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4356000" y="3933720"/>
            <a:ext cx="1727280" cy="36036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so 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4716360" y="4581360"/>
            <a:ext cx="1727280" cy="36036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olenc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21"/>
          <p:cNvSpPr txBox="1"/>
          <p:nvPr/>
        </p:nvSpPr>
        <p:spPr>
          <a:xfrm>
            <a:off x="3635280" y="2852640"/>
            <a:ext cx="2838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LTR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407" name="Group 26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408" name="Group 27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409" name="Group 28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410" name="Group 29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411" name="Group 30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412" name="Picture 31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13" name="Picture 32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14" name="Group 33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415" name="Picture 34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16" name="Picture 35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17" name="Group 36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418" name="Group 37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419" name="Picture 38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0" name="Picture 39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21" name="Group 40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422" name="Picture 41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3" name="Picture 42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424" name="Group 43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425" name="Group 44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426" name="Group 45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427" name="Picture 46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8" name="Picture 47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29" name="Group 48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430" name="Picture 49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31" name="Picture 50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32" name="Group 51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433" name="Group 52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434" name="Picture 53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35" name="Picture 54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36" name="Group 55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437" name="Picture 56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38" name="Picture 57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439" name="Group 58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440" name="Group 59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441" name="Picture 60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61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3" name="Group 62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444" name="Picture 63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64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446" name="Rectangle 58"/>
          <p:cNvSpPr/>
          <p:nvPr/>
        </p:nvSpPr>
        <p:spPr>
          <a:xfrm>
            <a:off x="179280" y="6308640"/>
            <a:ext cx="8785440" cy="360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448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1760040" y="1052640"/>
            <a:ext cx="52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DUCTAS DE HOSTIG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258920" y="2205000"/>
            <a:ext cx="7345440" cy="2945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ucir las posibilidades de comunicarse con otros, incluido el propio acosad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tar que tenga la posibilidad de mantener contacto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rigidas a desacreditar (o impedir mantener) su reputación personal o labo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rigidas a reducir la ocupación de la víctima y su empleabilidad mediante la desacreditación profes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afectan a la salud física o psíquica de la vícti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78560" y="18900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COSO MORAL o PSIC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5365440" y="14130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99"/>
                </a:solidFill>
                <a:latin typeface="Arial"/>
              </a:rPr>
              <a:t>Según Ley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456" name="Group 14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457" name="Group 15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458" name="Group 16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459" name="Group 17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460" name="Picture 18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1" name="Picture 19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62" name="Group 20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463" name="Picture 21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4" name="Picture 22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65" name="Group 23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466" name="Group 24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467" name="Picture 25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8" name="Picture 26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69" name="Group 27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470" name="Picture 28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71" name="Picture 29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472" name="Group 30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473" name="Group 31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474" name="Group 32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475" name="Picture 33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76" name="Picture 34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77" name="Group 35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478" name="Picture 36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79" name="Picture 37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80" name="Group 38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481" name="Group 39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482" name="Picture 40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83" name="Picture 41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84" name="Group 42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485" name="Picture 43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86" name="Picture 44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487" name="Group 45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488" name="Group 46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489" name="Picture 47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Picture 48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1" name="Group 49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492" name="Picture 50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51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94" name="Group 56"/>
          <p:cNvGrpSpPr/>
          <p:nvPr/>
        </p:nvGrpSpPr>
        <p:grpSpPr>
          <a:xfrm>
            <a:off x="179280" y="6308640"/>
            <a:ext cx="8785440" cy="360360"/>
            <a:chOff x="179280" y="6308640"/>
            <a:chExt cx="8785440" cy="360360"/>
          </a:xfrm>
        </p:grpSpPr>
        <p:sp>
          <p:nvSpPr>
            <p:cNvPr id="495" name="Rectangle 57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58"/>
            <p:cNvSpPr/>
            <p:nvPr/>
          </p:nvSpPr>
          <p:spPr>
            <a:xfrm>
              <a:off x="324000" y="6388200"/>
              <a:ext cx="5903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59"/>
            <p:cNvSpPr/>
            <p:nvPr/>
          </p:nvSpPr>
          <p:spPr>
            <a:xfrm>
              <a:off x="6515280" y="6335640"/>
              <a:ext cx="2377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499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33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"/>
          <p:cNvSpPr/>
          <p:nvPr/>
        </p:nvSpPr>
        <p:spPr>
          <a:xfrm>
            <a:off x="1187280" y="2133720"/>
            <a:ext cx="7129800" cy="569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Una nueva posibilidad para pensar el acoso 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-38520" y="236520"/>
            <a:ext cx="92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FORO INTERDISCIPLINARIO DE INVESTIGACIÓN EN MALTRAT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0"/>
          <p:cNvGrpSpPr/>
          <p:nvPr/>
        </p:nvGrpSpPr>
        <p:grpSpPr>
          <a:xfrm>
            <a:off x="0" y="728640"/>
            <a:ext cx="9143280" cy="252360"/>
            <a:chOff x="0" y="728640"/>
            <a:chExt cx="9143280" cy="252360"/>
          </a:xfrm>
        </p:grpSpPr>
        <p:grpSp>
          <p:nvGrpSpPr>
            <p:cNvPr id="505" name="Group 11"/>
            <p:cNvGrpSpPr/>
            <p:nvPr/>
          </p:nvGrpSpPr>
          <p:grpSpPr>
            <a:xfrm>
              <a:off x="0" y="728640"/>
              <a:ext cx="7574040" cy="252360"/>
              <a:chOff x="0" y="728640"/>
              <a:chExt cx="7574040" cy="252360"/>
            </a:xfrm>
          </p:grpSpPr>
          <p:grpSp>
            <p:nvGrpSpPr>
              <p:cNvPr id="506" name="Group 12"/>
              <p:cNvGrpSpPr/>
              <p:nvPr/>
            </p:nvGrpSpPr>
            <p:grpSpPr>
              <a:xfrm>
                <a:off x="0" y="728640"/>
                <a:ext cx="3836520" cy="252360"/>
                <a:chOff x="0" y="728640"/>
                <a:chExt cx="3836520" cy="252360"/>
              </a:xfrm>
            </p:grpSpPr>
            <p:grpSp>
              <p:nvGrpSpPr>
                <p:cNvPr id="507" name="Group 13"/>
                <p:cNvGrpSpPr/>
                <p:nvPr/>
              </p:nvGrpSpPr>
              <p:grpSpPr>
                <a:xfrm>
                  <a:off x="0" y="728640"/>
                  <a:ext cx="1968120" cy="252360"/>
                  <a:chOff x="0" y="728640"/>
                  <a:chExt cx="1968120" cy="252360"/>
                </a:xfrm>
              </p:grpSpPr>
              <p:grpSp>
                <p:nvGrpSpPr>
                  <p:cNvPr id="508" name="Group 14"/>
                  <p:cNvGrpSpPr/>
                  <p:nvPr/>
                </p:nvGrpSpPr>
                <p:grpSpPr>
                  <a:xfrm>
                    <a:off x="934200" y="728640"/>
                    <a:ext cx="1033920" cy="252360"/>
                    <a:chOff x="934200" y="728640"/>
                    <a:chExt cx="1033920" cy="252360"/>
                  </a:xfrm>
                </p:grpSpPr>
                <p:pic>
                  <p:nvPicPr>
                    <p:cNvPr id="509" name="Picture 15" descr="247_g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4018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0" name="Picture 16" descr="247_g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42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11" name="Group 17"/>
                  <p:cNvGrpSpPr/>
                  <p:nvPr/>
                </p:nvGrpSpPr>
                <p:grpSpPr>
                  <a:xfrm>
                    <a:off x="0" y="728640"/>
                    <a:ext cx="1033920" cy="252360"/>
                    <a:chOff x="0" y="728640"/>
                    <a:chExt cx="1033920" cy="252360"/>
                  </a:xfrm>
                </p:grpSpPr>
                <p:pic>
                  <p:nvPicPr>
                    <p:cNvPr id="512" name="Picture 18" descr="247_g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76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3" name="Picture 19" descr="247_g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514" name="Group 20"/>
                <p:cNvGrpSpPr/>
                <p:nvPr/>
              </p:nvGrpSpPr>
              <p:grpSpPr>
                <a:xfrm>
                  <a:off x="1868400" y="728640"/>
                  <a:ext cx="1968120" cy="252360"/>
                  <a:chOff x="1868400" y="728640"/>
                  <a:chExt cx="1968120" cy="252360"/>
                </a:xfrm>
              </p:grpSpPr>
              <p:grpSp>
                <p:nvGrpSpPr>
                  <p:cNvPr id="515" name="Group 21"/>
                  <p:cNvGrpSpPr/>
                  <p:nvPr/>
                </p:nvGrpSpPr>
                <p:grpSpPr>
                  <a:xfrm>
                    <a:off x="2802600" y="728640"/>
                    <a:ext cx="1033920" cy="252360"/>
                    <a:chOff x="2802600" y="728640"/>
                    <a:chExt cx="1033920" cy="252360"/>
                  </a:xfrm>
                </p:grpSpPr>
                <p:pic>
                  <p:nvPicPr>
                    <p:cNvPr id="516" name="Picture 22" descr="247_g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02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17" name="Picture 23" descr="247_g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026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18" name="Group 24"/>
                  <p:cNvGrpSpPr/>
                  <p:nvPr/>
                </p:nvGrpSpPr>
                <p:grpSpPr>
                  <a:xfrm>
                    <a:off x="1868400" y="728640"/>
                    <a:ext cx="1033920" cy="252360"/>
                    <a:chOff x="1868400" y="728640"/>
                    <a:chExt cx="1033920" cy="252360"/>
                  </a:xfrm>
                </p:grpSpPr>
                <p:pic>
                  <p:nvPicPr>
                    <p:cNvPr id="519" name="Picture 25" descr="247_g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3604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20" name="Picture 26" descr="247_g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840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521" name="Group 27"/>
              <p:cNvGrpSpPr/>
              <p:nvPr/>
            </p:nvGrpSpPr>
            <p:grpSpPr>
              <a:xfrm>
                <a:off x="3737520" y="728640"/>
                <a:ext cx="3836520" cy="252360"/>
                <a:chOff x="3737520" y="728640"/>
                <a:chExt cx="3836520" cy="252360"/>
              </a:xfrm>
            </p:grpSpPr>
            <p:grpSp>
              <p:nvGrpSpPr>
                <p:cNvPr id="522" name="Group 28"/>
                <p:cNvGrpSpPr/>
                <p:nvPr/>
              </p:nvGrpSpPr>
              <p:grpSpPr>
                <a:xfrm>
                  <a:off x="3737520" y="728640"/>
                  <a:ext cx="1968120" cy="252360"/>
                  <a:chOff x="3737520" y="728640"/>
                  <a:chExt cx="1968120" cy="252360"/>
                </a:xfrm>
              </p:grpSpPr>
              <p:grpSp>
                <p:nvGrpSpPr>
                  <p:cNvPr id="523" name="Group 29"/>
                  <p:cNvGrpSpPr/>
                  <p:nvPr/>
                </p:nvGrpSpPr>
                <p:grpSpPr>
                  <a:xfrm>
                    <a:off x="4671720" y="728640"/>
                    <a:ext cx="1033920" cy="252360"/>
                    <a:chOff x="4671720" y="728640"/>
                    <a:chExt cx="1033920" cy="252360"/>
                  </a:xfrm>
                </p:grpSpPr>
                <p:pic>
                  <p:nvPicPr>
                    <p:cNvPr id="524" name="Picture 30" descr="247_g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393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25" name="Picture 31" descr="247_g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717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26" name="Group 32"/>
                  <p:cNvGrpSpPr/>
                  <p:nvPr/>
                </p:nvGrpSpPr>
                <p:grpSpPr>
                  <a:xfrm>
                    <a:off x="3737520" y="728640"/>
                    <a:ext cx="1033920" cy="252360"/>
                    <a:chOff x="3737520" y="728640"/>
                    <a:chExt cx="1033920" cy="252360"/>
                  </a:xfrm>
                </p:grpSpPr>
                <p:pic>
                  <p:nvPicPr>
                    <p:cNvPr id="527" name="Picture 33" descr="247_g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2051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28" name="Picture 34" descr="247_g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75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529" name="Group 35"/>
                <p:cNvGrpSpPr/>
                <p:nvPr/>
              </p:nvGrpSpPr>
              <p:grpSpPr>
                <a:xfrm>
                  <a:off x="5605920" y="728640"/>
                  <a:ext cx="1968120" cy="252360"/>
                  <a:chOff x="5605920" y="728640"/>
                  <a:chExt cx="1968120" cy="252360"/>
                </a:xfrm>
              </p:grpSpPr>
              <p:grpSp>
                <p:nvGrpSpPr>
                  <p:cNvPr id="530" name="Group 36"/>
                  <p:cNvGrpSpPr/>
                  <p:nvPr/>
                </p:nvGrpSpPr>
                <p:grpSpPr>
                  <a:xfrm>
                    <a:off x="6540120" y="728640"/>
                    <a:ext cx="1033920" cy="252360"/>
                    <a:chOff x="6540120" y="728640"/>
                    <a:chExt cx="1033920" cy="252360"/>
                  </a:xfrm>
                </p:grpSpPr>
                <p:pic>
                  <p:nvPicPr>
                    <p:cNvPr id="531" name="Picture 37" descr="247_g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0077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32" name="Picture 38" descr="247_g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01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33" name="Group 39"/>
                  <p:cNvGrpSpPr/>
                  <p:nvPr/>
                </p:nvGrpSpPr>
                <p:grpSpPr>
                  <a:xfrm>
                    <a:off x="5605920" y="728640"/>
                    <a:ext cx="1033920" cy="252360"/>
                    <a:chOff x="5605920" y="728640"/>
                    <a:chExt cx="1033920" cy="252360"/>
                  </a:xfrm>
                </p:grpSpPr>
                <p:pic>
                  <p:nvPicPr>
                    <p:cNvPr id="534" name="Picture 40" descr="247_g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07356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35" name="Picture 41" descr="247_g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05920" y="728640"/>
                      <a:ext cx="56628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536" name="Group 42"/>
            <p:cNvGrpSpPr/>
            <p:nvPr/>
          </p:nvGrpSpPr>
          <p:grpSpPr>
            <a:xfrm>
              <a:off x="7175160" y="728640"/>
              <a:ext cx="1968120" cy="252360"/>
              <a:chOff x="7175160" y="728640"/>
              <a:chExt cx="1968120" cy="252360"/>
            </a:xfrm>
          </p:grpSpPr>
          <p:grpSp>
            <p:nvGrpSpPr>
              <p:cNvPr id="537" name="Group 43"/>
              <p:cNvGrpSpPr/>
              <p:nvPr/>
            </p:nvGrpSpPr>
            <p:grpSpPr>
              <a:xfrm>
                <a:off x="8109360" y="728640"/>
                <a:ext cx="1033920" cy="252360"/>
                <a:chOff x="8109360" y="728640"/>
                <a:chExt cx="1033920" cy="252360"/>
              </a:xfrm>
            </p:grpSpPr>
            <p:pic>
              <p:nvPicPr>
                <p:cNvPr id="538" name="Picture 44" descr="247_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5770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45" descr="247_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1093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0" name="Group 46"/>
              <p:cNvGrpSpPr/>
              <p:nvPr/>
            </p:nvGrpSpPr>
            <p:grpSpPr>
              <a:xfrm>
                <a:off x="7175160" y="728640"/>
                <a:ext cx="1033920" cy="252360"/>
                <a:chOff x="7175160" y="728640"/>
                <a:chExt cx="1033920" cy="252360"/>
              </a:xfrm>
            </p:grpSpPr>
            <p:pic>
              <p:nvPicPr>
                <p:cNvPr id="541" name="Picture 47" descr="247_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64280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48" descr="247_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75160" y="728640"/>
                  <a:ext cx="566280" cy="25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43" name="Text Box 49"/>
          <p:cNvSpPr/>
          <p:nvPr/>
        </p:nvSpPr>
        <p:spPr>
          <a:xfrm>
            <a:off x="2991240" y="112536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na Sotelo Marq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0"/>
          <p:cNvSpPr/>
          <p:nvPr/>
        </p:nvSpPr>
        <p:spPr>
          <a:xfrm>
            <a:off x="1187280" y="3103560"/>
            <a:ext cx="72010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vulneración de ciertos derech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dría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originar consecuencias adversas o lesiv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erecho a la dig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erecho a la integ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erecho a la intim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erecho a la image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179280" y="6308640"/>
            <a:ext cx="8785440" cy="360360"/>
            <a:chOff x="179280" y="6308640"/>
            <a:chExt cx="8785440" cy="360360"/>
          </a:xfrm>
        </p:grpSpPr>
        <p:sp>
          <p:nvSpPr>
            <p:cNvPr id="546" name="Rectangle 52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53"/>
            <p:cNvSpPr/>
            <p:nvPr/>
          </p:nvSpPr>
          <p:spPr>
            <a:xfrm>
              <a:off x="324000" y="6388200"/>
              <a:ext cx="5903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4"/>
            <p:cNvSpPr/>
            <p:nvPr/>
          </p:nvSpPr>
          <p:spPr>
            <a:xfrm>
              <a:off x="6515280" y="6335640"/>
              <a:ext cx="2377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57"/>
          <p:cNvGrpSpPr/>
          <p:nvPr/>
        </p:nvGrpSpPr>
        <p:grpSpPr>
          <a:xfrm>
            <a:off x="179280" y="6308640"/>
            <a:ext cx="8785440" cy="658440"/>
            <a:chOff x="179280" y="6308640"/>
            <a:chExt cx="8785440" cy="658440"/>
          </a:xfrm>
        </p:grpSpPr>
        <p:sp>
          <p:nvSpPr>
            <p:cNvPr id="550" name="Rectangle 58"/>
            <p:cNvSpPr/>
            <p:nvPr/>
          </p:nvSpPr>
          <p:spPr>
            <a:xfrm>
              <a:off x="179280" y="6308640"/>
              <a:ext cx="8785440" cy="360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59"/>
            <p:cNvSpPr/>
            <p:nvPr/>
          </p:nvSpPr>
          <p:spPr>
            <a:xfrm>
              <a:off x="324000" y="6388200"/>
              <a:ext cx="5903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99"/>
                  </a:solidFill>
                  <a:latin typeface="Verdana"/>
                  <a:ea typeface="Verdana"/>
                </a:rPr>
                <a:t>Lic. Jorge CAMPILO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60"/>
            <p:cNvSpPr/>
            <p:nvPr/>
          </p:nvSpPr>
          <p:spPr>
            <a:xfrm>
              <a:off x="6515280" y="6335640"/>
              <a:ext cx="2377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99"/>
                  </a:solidFill>
                  <a:latin typeface="Verdana"/>
                  <a:ea typeface="Verdana"/>
                </a:rPr>
                <a:t>24 de Agosto de 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7:51:58Z</dcterms:created>
  <dc:creator>Hotel Portezuelo</dc:creator>
  <dc:description/>
  <dc:language>en-US</dc:language>
  <cp:lastModifiedBy>mcalvarez</cp:lastModifiedBy>
  <dcterms:modified xsi:type="dcterms:W3CDTF">2011-08-30T19:59:28Z</dcterms:modified>
  <cp:revision>113</cp:revision>
  <dc:subject/>
  <dc:title>Diapositiva 1</dc:title>
</cp:coreProperties>
</file>